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79B2-6CB1-4223-B595-4CA14761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86527-263F-4AF3-9513-6BD69006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25A3B-D997-4F3A-8834-26099E48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73E2-50DC-447A-B71B-55021947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BEE9-4112-4980-A0D8-EFF2C37F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D5B8-AB56-450C-873D-170A40BD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7D4A-93AF-4472-B7ED-259407DD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876B-01E7-4EB1-97B6-00BCC4BD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2E6C-FB25-4EF1-9D71-6762E631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E607-264B-4590-893F-CF5DC210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C3A0-FC26-423E-84A1-853E6300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EEAF-B20C-4E11-87C3-9ABA8897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384E-FC97-4D22-B267-28ADF924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F2D9-1620-4BBC-B676-E23EB1D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388C-3B48-4328-94F2-3667F350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1B8C-9D66-4B74-9B0C-E55FA4E8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F661-5125-4416-8406-1116AD63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56D1A-5538-46A2-AFD6-BFB5B012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2D8D4-12FA-454C-B00B-92D890F4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BBAC-F379-45A6-A400-2F82083D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FEF49-F670-4F6E-9CCC-340F3F0B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02156-01FB-435A-8984-5AB18511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E9A2B-8150-482E-A1CA-F409F68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51599-B0AB-48D3-95E9-0C8CA524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AB54-A83C-4AD8-8AD0-3B029A690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3743-ED10-4AFC-BFCE-D7F7FC8717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ff"/>
                </a:solidFill>
                <a:latin typeface="Arial"/>
              </a:rPr>
              <a:t>Me llamo _______               Clase 801</a:t>
            </a:r>
            <a:br>
              <a:rPr sz="3800"/>
            </a:br>
            <a:r>
              <a:rPr b="0" lang="en-US" sz="3800" spc="-1" strike="noStrike">
                <a:solidFill>
                  <a:srgbClr val="9999ff"/>
                </a:solidFill>
                <a:latin typeface="Arial"/>
              </a:rPr>
              <a:t>La fecha es el 31 de marzo del 20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Propósito # 66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omiste para el almuerz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92d050"/>
                </a:solidFill>
                <a:latin typeface="Arial"/>
              </a:rPr>
              <a:t>L.O: to learn the use &amp; form of preterite -ER/-I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Actividad Inicial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la Sopa de letras-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l concie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Fuiste al cine durante el fin de sem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Miraste una pelic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pelicula mira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tipo de pelicula f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66"/>
                </a:solidFill>
                <a:latin typeface="Arial"/>
              </a:rPr>
              <a:t>El Pretérito de los verbos –ER, -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do usamos el preteri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verbos regulares que terminan en –ER/ -IR se conjugan de la siguiente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-ER  / 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0099"/>
                </a:solidFill>
                <a:latin typeface="Arial"/>
              </a:rPr>
              <a:t>-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Ellas U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464280" y="3962520"/>
            <a:ext cx="84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í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18760" y="4495680"/>
            <a:ext cx="834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417480" y="5029200"/>
            <a:ext cx="1035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ió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23440" y="5562720"/>
            <a:ext cx="1485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imos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269520" y="6095880"/>
            <a:ext cx="155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-ieron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826600" y="3962520"/>
            <a:ext cx="84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í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654160" y="4495680"/>
            <a:ext cx="123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iste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779800" y="5029200"/>
            <a:ext cx="1035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ió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5542920" y="5562720"/>
            <a:ext cx="1406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imo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539680" y="6095880"/>
            <a:ext cx="155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-ieron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1087560" y="1752480"/>
            <a:ext cx="658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Verdana"/>
              </a:rPr>
              <a:t>Usamos el pretérito para expresar una acción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Verdana"/>
              </a:rPr>
              <a:t>empezó y termino en el pasado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886200" y="1981080"/>
          <a:ext cx="4800600" cy="423720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</a:tblGrid>
              <a:tr h="648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sis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o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ectangle 3"/>
          <p:cNvSpPr/>
          <p:nvPr/>
        </p:nvSpPr>
        <p:spPr>
          <a:xfrm>
            <a:off x="380880" y="1981080"/>
            <a:ext cx="3581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ga lo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st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os verbo ‘DAR’ y ‘VER’ en el Preter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eterito de los verbos DA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give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V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o se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conjugan igual que los verbos que terminan en –ER/-IR pero SIN ACE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                  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Dar         /        </a:t>
            </a:r>
            <a:r>
              <a:rPr b="1" lang="es-ES_tradnl" sz="3200" spc="-1" strike="noStrike">
                <a:solidFill>
                  <a:srgbClr val="990099"/>
                </a:solidFill>
                <a:latin typeface="Arial"/>
              </a:rPr>
              <a:t>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Ellas U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975480" y="3809880"/>
            <a:ext cx="49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784320" y="4343400"/>
            <a:ext cx="962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841200" y="4800600"/>
            <a:ext cx="68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715560" y="5334120"/>
            <a:ext cx="1137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639240" y="5943600"/>
            <a:ext cx="120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570360" y="3809880"/>
            <a:ext cx="471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379200" y="4343400"/>
            <a:ext cx="93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6512400" y="4800600"/>
            <a:ext cx="660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6310800" y="5334120"/>
            <a:ext cx="1110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6386760" y="5943600"/>
            <a:ext cx="117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V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pa de letras- EL CINE Y EL MUS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8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pa de letras- EL CUMPLE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33520" y="342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area # 6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9:28:00Z</dcterms:created>
  <dc:creator>Helen Zumaeta</dc:creator>
  <dc:description/>
  <dc:language>en-US</dc:language>
  <cp:lastModifiedBy>Helen Zumaeta</cp:lastModifiedBy>
  <cp:lastPrinted>2016-04-06T20:11:56Z</cp:lastPrinted>
  <dcterms:modified xsi:type="dcterms:W3CDTF">2017-03-31T15:14:48Z</dcterms:modified>
  <cp:revision>21</cp:revision>
  <dc:subject/>
  <dc:title>Me llamo _______               Clase 8 im La fecha es el 6 de diciembre del 2012</dc:title>
</cp:coreProperties>
</file>